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21B-64DF-47AA-8FB7-BBD07AAB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2F1-B543-4269-9463-433E9FE6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5D6-A9D3-46F2-91E6-47EAC36D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BAD-C20D-4BC9-8B51-D83EE7AC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A6C-08B7-4DA3-91DC-191B4C86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C01-07AD-42AD-B538-0583DDE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91F-4381-459E-810A-182036B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E3A-8715-44F8-AEEE-C361FDF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20B-FE87-4F8B-805A-1731EC24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4F8-8FB9-41D5-9F0C-FC675B5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F50-DE14-4B90-BE65-3487F45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1A6-3329-45CC-A932-C712D91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319D-6032-42DD-83DE-9C4D5E0DD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908000" y="1844640"/>
            <a:ext cx="590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8.2</a:t>
            </a:r>
            <a:r>
              <a:rPr b="1" i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抽样调查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900000" y="0"/>
            <a:ext cx="8028000" cy="981000"/>
          </a:xfrm>
          <a:prstGeom prst="cloudCallout">
            <a:avLst>
              <a:gd name="adj1" fmla="val -43967"/>
              <a:gd name="adj2" fmla="val 1695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下列调查又是如何进行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218120"/>
            <a:ext cx="822960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为一特定目而对</a:t>
            </a: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部分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考察对象所作的调查叫做抽样调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182adc3cac89b44147cd9e9071fead3"/>
          <p:cNvPicPr/>
          <p:nvPr/>
        </p:nvPicPr>
        <p:blipFill>
          <a:blip r:embed="rId1"/>
          <a:stretch/>
        </p:blipFill>
        <p:spPr>
          <a:xfrm>
            <a:off x="2340000" y="1197000"/>
            <a:ext cx="2808360" cy="2028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Garamond"/>
                <a:ea typeface="方正舒体"/>
              </a:rPr>
              <a:t>讨论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340000" y="3284640"/>
            <a:ext cx="2817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灯泡的寿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5568840" y="3141720"/>
            <a:ext cx="325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视率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%E7%94%B5%E8%A7%86%E6%9C%BA"/>
          <p:cNvPicPr/>
          <p:nvPr/>
        </p:nvPicPr>
        <p:blipFill>
          <a:blip r:embed="rId2"/>
          <a:stretch/>
        </p:blipFill>
        <p:spPr>
          <a:xfrm>
            <a:off x="5796000" y="1197000"/>
            <a:ext cx="2808360" cy="212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EA02020 副本"/>
          <p:cNvPicPr/>
          <p:nvPr/>
        </p:nvPicPr>
        <p:blipFill>
          <a:blip r:embed="rId3"/>
          <a:stretch/>
        </p:blipFill>
        <p:spPr>
          <a:xfrm>
            <a:off x="250920" y="1773360"/>
            <a:ext cx="154440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28180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列调查中，哪些用的是普查？哪些是抽样调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了了解你所在的班级的每个学生穿几号鞋，向全班学生做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电视机显像管的使用寿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查我国所有城市中哪些是第一批沿海开放城市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全国范围内调查七年级学生的平均身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32000" y="2997360"/>
            <a:ext cx="260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476360" y="4292640"/>
            <a:ext cx="14511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普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476360" y="5661000"/>
            <a:ext cx="2521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619280" y="1989000"/>
            <a:ext cx="1450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普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为什么不采用普查方式进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列调查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全国范围内调查七年级学生的平均身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解电视机显象管的使用寿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9280" y="476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讲一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IF-502"/>
          <p:cNvPicPr/>
          <p:nvPr/>
        </p:nvPicPr>
        <p:blipFill>
          <a:blip r:embed="rId1"/>
          <a:stretch/>
        </p:blipFill>
        <p:spPr>
          <a:xfrm>
            <a:off x="7740720" y="0"/>
            <a:ext cx="1160280" cy="1871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971640" y="2637000"/>
            <a:ext cx="568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范围太大，不易进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85960" y="4164120"/>
            <a:ext cx="684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具有破坏性，不允许进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95280" y="765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１、普查与抽样调查有何优缺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2920" y="1628640"/>
          <a:ext cx="8893080" cy="4119480"/>
        </p:xfrm>
        <a:graphic>
          <a:graphicData uri="http://schemas.openxmlformats.org/drawingml/2006/table">
            <a:tbl>
              <a:tblPr/>
              <a:tblGrid>
                <a:gridCol w="2963880"/>
                <a:gridCol w="2965320"/>
                <a:gridCol w="2963880"/>
              </a:tblGrid>
              <a:tr h="1373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调查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缺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抽样调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6"/>
          <p:cNvSpPr/>
          <p:nvPr/>
        </p:nvSpPr>
        <p:spPr>
          <a:xfrm>
            <a:off x="3203640" y="43657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调查的范围小、节省时间和人力物力</a:t>
            </a:r>
            <a:r>
              <a:rPr b="0" i="1" lang="zh-CN" sz="2800" spc="-1" strike="noStrike">
                <a:solidFill>
                  <a:srgbClr val="ffcc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141080" y="3054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准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165800" y="45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近似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165800" y="3054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难度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79280" y="26028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议一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95280" y="2109960"/>
            <a:ext cx="849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楷体_GB2312"/>
              </a:rPr>
              <a:t>　　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当调查对象个数较少，调查容易进行或者调查的结果有特殊意义时，一般采用普查。　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　　当调查对象个数较多，调查不容易进行或者调查的结果对调查的对象有破坏性，或者会产生一定的危害时，一般采用抽查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5720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什么情况用普查？什么情况用抽样调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下列各项调查中，哪些适合抽样调查，哪些适合普查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１）某灯泡厂对生产的１０００只灯泡的使用寿命进行调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２）调查市场上某品牌矿泉水的质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３）调查某字典的印刷错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４）某服装厂调查江苏省１８岁青年的身高情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５）检查一批新入伍的飞行员的视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373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（１）、（２）、（４）采用抽样调查　（３）、（５）采用普查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请你设计一种方案调查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０００只电灯泡的平均使用寿命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2602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Garamond"/>
                <a:ea typeface="方正舒体"/>
              </a:rPr>
              <a:t>讨论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114200" y="1584360"/>
            <a:ext cx="6913800" cy="4797360"/>
            <a:chOff x="1114200" y="1584360"/>
            <a:chExt cx="6913800" cy="4797360"/>
          </a:xfrm>
        </p:grpSpPr>
        <p:pic>
          <p:nvPicPr>
            <p:cNvPr id="112" name="Picture 5" descr="1"/>
            <p:cNvPicPr/>
            <p:nvPr/>
          </p:nvPicPr>
          <p:blipFill>
            <a:blip r:embed="rId1"/>
            <a:stretch/>
          </p:blipFill>
          <p:spPr>
            <a:xfrm>
              <a:off x="5926320" y="3497400"/>
              <a:ext cx="2101680" cy="28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AutoShape 6"/>
            <p:cNvSpPr/>
            <p:nvPr/>
          </p:nvSpPr>
          <p:spPr>
            <a:xfrm flipH="1" flipV="1">
              <a:off x="1113480" y="1584360"/>
              <a:ext cx="5203800" cy="2651040"/>
            </a:xfrm>
            <a:prstGeom prst="cloudCallout">
              <a:avLst>
                <a:gd name="adj1" fmla="val -53754"/>
                <a:gd name="adj2" fmla="val -63652"/>
              </a:avLst>
            </a:prstGeom>
            <a:solidFill>
              <a:srgbClr val="e2e5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1690920" y="2376360"/>
              <a:ext cx="4537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从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０００只电泡</a:t>
              </a:r>
              <a:br>
                <a:rPr sz="4000"/>
              </a:b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中抽取１０只进行</a:t>
              </a:r>
              <a:br>
                <a:rPr sz="4000"/>
              </a:b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检测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总体：所要考察对象的全体叫做     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总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体：组成总体的每一个考察对  象叫做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个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样本：从总体中取出的一部分个 体叫做这个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总体的一个样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样本容量：样本中个体的数目叫做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样本容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统计中，为了叙述上的方便，我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们引入了几个概念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了了解某校七年级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名学生的体重情况，从中抽查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名学生的体重进行统计分析，在这个问题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样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样本容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403280" y="2708280"/>
            <a:ext cx="7129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校七年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学生的体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47640" y="3429000"/>
            <a:ext cx="7129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每一名学生的体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14560" y="544500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476360" y="4076640"/>
            <a:ext cx="71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抽取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学生的体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484360" y="4724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５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194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GIF-502"/>
          <p:cNvPicPr/>
          <p:nvPr/>
        </p:nvPicPr>
        <p:blipFill>
          <a:blip r:embed="rId1"/>
          <a:stretch/>
        </p:blipFill>
        <p:spPr>
          <a:xfrm>
            <a:off x="7439040" y="4005360"/>
            <a:ext cx="1606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校初一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班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学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71380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次数学测试后，班主任李老师统计了全班每一位同学的成绩，并计算出班级平均分，李老师采取的是哪种调查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叶同学的爸爸想了解一下班级大致平均分，只选取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同学的成绩进行计算，江叶的爸爸采取的是哪种调查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95280" y="76500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理解并掌握：普查、抽查、总体、个体、样本、样本容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判断一个个调查是普查还是抽查，并能说出原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从一个抽查中找到：总体、个体、样本、样本容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李老师和江叶的爸爸如果同时进行计算，谁的速度比较快？谁的更准确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882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李老师因为工作量大，花费时间多，计算的结果准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江叶的爸爸计算工作量较小，花费时间比较少，计算的结果不够准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3141360"/>
            <a:ext cx="8569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任意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名男生的数学成绩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选取阶段测试中总分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名同学的数学成绩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260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于初一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班的这次数学测试，江叶的爸爸因为临时有事，请三位同学按如下三种方法计算，你认为哪种方法计算的结果将会和李老师的计算结果比较接近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9280" y="494172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选取班级学号为单号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名同学的数学成绩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总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样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样本容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说出这次调查过程中的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总体，　个体，样本，样本容量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050920" y="278136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校初一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班全体同学的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数学成绩。</a:t>
            </a:r>
            <a:br>
              <a:rPr sz="36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174760" y="35719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校初一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班每位同学的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数学成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268360" y="465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从中抽取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同学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数学成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059280" y="5300640"/>
            <a:ext cx="86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503280" y="18180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总体</a:t>
            </a:r>
            <a:r>
              <a:rPr b="1" i="1" lang="zh-CN" sz="3200" spc="-1" strike="noStrike">
                <a:solidFill>
                  <a:srgbClr val="99cc00"/>
                </a:solidFill>
                <a:latin typeface="Arial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个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样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样本的容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692360" y="26359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该省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万名学生的数学成绩的全体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763640" y="3356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每名学生的数学成绩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。</a:t>
            </a:r>
            <a:r>
              <a:rPr b="1" i="1" lang="zh-CN" sz="3200" spc="-1" strike="noStrike">
                <a:solidFill>
                  <a:srgbClr val="ff3399"/>
                </a:solidFill>
                <a:latin typeface="宋体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763640" y="40759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从中抽取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00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名学生的数学成绩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76720" y="4941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00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4000" y="792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问题一：某省有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万名学生参加初中毕业会考，要想了解这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万名学生的数学成绩，从中抽取了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00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名学生的数学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351000" y="2662920"/>
            <a:ext cx="8640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）为了滦平县六中七年级学生视力情况，从七年级学生中选取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00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人进行检测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）为了了解我市市区及周边近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70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万人的出行情况，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400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名调查者走入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万户家庭，发放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万份问卷，进行调查登记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24000" y="11775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问题二：说出下列问题中的总体、个体、样本和样本容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6600"/>
                </a:solidFill>
                <a:latin typeface="宋体"/>
              </a:rPr>
              <a:t>这节课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20680" y="175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节课主要是认识了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普查和抽样调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两种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查是通过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调查总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方式来收集数据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样调查是通过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调查样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方式来收集数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学习了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总体、个体样本和样本容　　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194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G00315_"/>
          <p:cNvPicPr/>
          <p:nvPr/>
        </p:nvPicPr>
        <p:blipFill>
          <a:blip r:embed="rId1"/>
          <a:stretch/>
        </p:blipFill>
        <p:spPr>
          <a:xfrm>
            <a:off x="0" y="4549680"/>
            <a:ext cx="217332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五次全国人口普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全国总人口为</a:t>
            </a:r>
            <a:r>
              <a:rPr b="0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29533</a:t>
            </a:r>
            <a:r>
              <a:rPr b="0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祖国大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省、自治区、直辖市和现役军人的人口共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2658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香港特别行政区人口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78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澳门特别行政区人口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4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台湾省和福建省的金门、马祖等岛屿人口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228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br>
              <a:rPr sz="36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96840" y="54000"/>
            <a:ext cx="19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灯  泡  的  寿  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随著科学家的研究与改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灯泡的寿命早已由过去的几十个小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变成今日的十几万小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182adc3cac89b44147cd9e9071fead3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96840" y="125280"/>
            <a:ext cx="19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收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视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率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调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3645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连云港电视台收视率调查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物纪录片《擦鞋夫妻》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.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％的记录高出了该周连云港电视台自办的所有栏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该栏目成立以来有记载的最高收视记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%E7%94%B5%E8%A7%86%E6%9C%BA"/>
          <p:cNvPicPr/>
          <p:nvPr/>
        </p:nvPicPr>
        <p:blipFill>
          <a:blip r:embed="rId1"/>
          <a:stretch/>
        </p:blipFill>
        <p:spPr>
          <a:xfrm>
            <a:off x="2484360" y="333360"/>
            <a:ext cx="4608720" cy="311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7885080" y="476280"/>
            <a:ext cx="93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iz20051015165953"/>
          <p:cNvPicPr/>
          <p:nvPr/>
        </p:nvPicPr>
        <p:blipFill>
          <a:blip r:embed="rId1"/>
          <a:stretch/>
        </p:blipFill>
        <p:spPr>
          <a:xfrm>
            <a:off x="5076720" y="0"/>
            <a:ext cx="4103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360" y="90756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体检中的身高、体重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3320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灌云实验中学学生每年都要进行一次体检，其中包括测量身高、体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6840" y="54000"/>
            <a:ext cx="19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读一读</a:t>
            </a: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20360" y="342864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人口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281560" y="3284640"/>
            <a:ext cx="2817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的寿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71640" y="6029280"/>
            <a:ext cx="287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视率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788000" y="6029280"/>
            <a:ext cx="4176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检中的身高、体重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u=3324945271,1389791693&amp;fm=0&amp;gp=10"/>
          <p:cNvPicPr/>
          <p:nvPr/>
        </p:nvPicPr>
        <p:blipFill>
          <a:blip r:embed="rId1"/>
          <a:stretch/>
        </p:blipFill>
        <p:spPr>
          <a:xfrm>
            <a:off x="1405080" y="1471680"/>
            <a:ext cx="2808000" cy="202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182adc3cac89b44147cd9e9071fead3"/>
          <p:cNvPicPr/>
          <p:nvPr/>
        </p:nvPicPr>
        <p:blipFill>
          <a:blip r:embed="rId2"/>
          <a:stretch/>
        </p:blipFill>
        <p:spPr>
          <a:xfrm>
            <a:off x="5292720" y="1471680"/>
            <a:ext cx="2808360" cy="202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Biz20051015165953"/>
          <p:cNvPicPr/>
          <p:nvPr/>
        </p:nvPicPr>
        <p:blipFill>
          <a:blip r:embed="rId3"/>
          <a:stretch/>
        </p:blipFill>
        <p:spPr>
          <a:xfrm>
            <a:off x="5580000" y="4037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%E7%94%B5%E8%A7%86%E6%9C%BA"/>
          <p:cNvPicPr/>
          <p:nvPr/>
        </p:nvPicPr>
        <p:blipFill>
          <a:blip r:embed="rId4"/>
          <a:stretch/>
        </p:blipFill>
        <p:spPr>
          <a:xfrm>
            <a:off x="1476360" y="4108320"/>
            <a:ext cx="2808360" cy="2129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324000" y="2637000"/>
            <a:ext cx="900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想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24000" y="431640"/>
            <a:ext cx="845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们看到的这些数据是怎么得到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50920" y="260280"/>
            <a:ext cx="856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为了收集这些数据，要进行一定的调查，我们这节课就一起来讨论一下数据收据的两种重要的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43280" y="35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普查</a:t>
            </a: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黑体"/>
              </a:rPr>
              <a:t>与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抽样调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692360" y="0"/>
            <a:ext cx="7451640" cy="981000"/>
          </a:xfrm>
          <a:prstGeom prst="cloudCallout">
            <a:avLst>
              <a:gd name="adj1" fmla="val -51236"/>
              <a:gd name="adj2" fmla="val 1695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下列调查是如何进行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197080" y="3438360"/>
            <a:ext cx="27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人口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867280" y="329400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检中的身高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重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u=3324945271,1389791693&amp;fm=0&amp;gp=10"/>
          <p:cNvPicPr/>
          <p:nvPr/>
        </p:nvPicPr>
        <p:blipFill>
          <a:blip r:embed="rId1"/>
          <a:stretch/>
        </p:blipFill>
        <p:spPr>
          <a:xfrm>
            <a:off x="2268360" y="1133640"/>
            <a:ext cx="2664000" cy="22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Biz20051015165953"/>
          <p:cNvPicPr/>
          <p:nvPr/>
        </p:nvPicPr>
        <p:blipFill>
          <a:blip r:embed="rId2"/>
          <a:stretch/>
        </p:blipFill>
        <p:spPr>
          <a:xfrm>
            <a:off x="5796000" y="1135080"/>
            <a:ext cx="28083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443700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为一特定目的而对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所有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考察对象作的</a:t>
            </a: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全面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调查叫做普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73080" y="117360"/>
            <a:ext cx="16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议一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EA02020 副本"/>
          <p:cNvPicPr/>
          <p:nvPr/>
        </p:nvPicPr>
        <p:blipFill>
          <a:blip r:embed="rId3"/>
          <a:stretch/>
        </p:blipFill>
        <p:spPr>
          <a:xfrm>
            <a:off x="250920" y="1655640"/>
            <a:ext cx="163188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1:00:16Z</dcterms:created>
  <dc:creator> </dc:creator>
  <dc:description> </dc:description>
  <dc:language>en-US</dc:language>
  <cp:lastModifiedBy>Administrator</cp:lastModifiedBy>
  <dcterms:modified xsi:type="dcterms:W3CDTF">2018-12-29T01:00:5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